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622-B12C-4F96-A3DF-5F0376C2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DB6-15C5-4B97-9D30-A3EA9F40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D86-FB26-4654-8E9D-413E1549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632-8075-4395-AF96-A138BF56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A81-DA8B-462E-A185-D1F05AA0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6C3-9283-4B93-83E4-C3254B4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165-AB82-41C9-A233-B155FA5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CF7-E8CF-4D11-89AB-F23AF28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129-06F1-4FC6-A1F5-33FC374A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D54-8C10-4340-B397-BB61BBB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11E-8A8B-408B-9980-F1EECBC5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146-A79C-4680-B617-00F068E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3B4E6E-EBDF-4B8B-915B-5269E77BB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4E6-B3A8-47B4-95EF-D08D1545D24B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B05-582B-4BDF-9EC4-71B414CE10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BA0-2F7B-44A4-8E01-68E9CB954E0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1676520" y="1219320"/>
                <a:ext cx="62769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1981080" y="3429000"/>
                <a:ext cx="6620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1981080" y="426708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914400" y="3032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143000" y="228600"/>
            <a:ext cx="7696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Regulaciones e incentiv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1981080" y="5105520"/>
                <a:ext cx="3378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2057400" y="586728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6" name=""/>
          <p:cNvSpPr/>
          <p:nvPr/>
        </p:nvSpPr>
        <p:spPr>
          <a:xfrm>
            <a:off x="7696080" y="2438280"/>
            <a:ext cx="1143000" cy="609840"/>
          </a:xfrm>
          <a:prstGeom prst="wedgeRectCallout">
            <a:avLst>
              <a:gd name="adj1" fmla="val -160416"/>
              <a:gd name="adj2" fmla="val -12057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621560" y="2438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905600" y="4572000"/>
            <a:ext cx="1143000" cy="609480"/>
          </a:xfrm>
          <a:prstGeom prst="wedgeRectCallout">
            <a:avLst>
              <a:gd name="adj1" fmla="val -93750"/>
              <a:gd name="adj2" fmla="val -1893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831080" y="4572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5943600"/>
            <a:ext cx="2590920" cy="380880"/>
          </a:xfrm>
          <a:prstGeom prst="wedgeRectCallout">
            <a:avLst>
              <a:gd name="adj1" fmla="val -74634"/>
              <a:gd name="adj2" fmla="val 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482360" y="59072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BD7-04E6-472C-AAD6-753DB70B017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1827720" y="25909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980360" y="274320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132640" y="289548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6633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4920" y="30481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437560" y="320040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589840" y="335268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d49fff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742120" y="35053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8cf4ea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894760" y="365760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047040" y="380988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ffff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199320" y="3962520"/>
            <a:ext cx="560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0" spc="-1" strike="noStrike">
                <a:solidFill>
                  <a:srgbClr val="cc0000"/>
                </a:solidFill>
                <a:latin typeface="Arial"/>
              </a:rPr>
              <a:t>POLITIC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43040" y="639360"/>
            <a:ext cx="64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b7a5"/>
                </a:solidFill>
                <a:latin typeface="Times New Roman"/>
              </a:rPr>
              <a:t>VIII. La Aplicación del Mod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F62-BAE9-4693-9E82-28B09A36465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5" name=""/>
          <p:cNvGraphicFramePr/>
          <p:nvPr/>
        </p:nvGraphicFramePr>
        <p:xfrm>
          <a:off x="6629400" y="1600200"/>
          <a:ext cx="2513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600200"/>
                    <a:ext cx="2513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¿Para qué sirve la modelación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63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Analizar posibles soluciones a los problemas de la ciudad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Realizar evaluaciones costo/beneficio y de opración de los proyectos de transporte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Predecir funcionamiento de la ciudad asociado a regulaciones e incentivos a US&amp;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Definir regulaciones/incentivos óptimos en base a objetivos /meta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1B7-4C69-482A-B196-B415BC724CEE}" type="slidenum">
              <a:t>103</a:t>
            </a:fld>
          </a:p>
        </p:txBody>
      </p:sp>
    </p:spTree>
  </p:cSld>
  <p:transition spd="med" advTm="31000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"/>
          <p:cNvSpPr/>
          <p:nvPr/>
        </p:nvSpPr>
        <p:spPr>
          <a:xfrm>
            <a:off x="974880" y="1050840"/>
            <a:ext cx="189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050480" y="2270160"/>
            <a:ext cx="186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049760" y="34894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050840" y="463248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50840" y="58514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66408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6408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66408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67020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594240" y="5727600"/>
            <a:ext cx="88884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71772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64104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4104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64176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709308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01676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07076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09308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01676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94044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070760" y="3489480"/>
            <a:ext cx="65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99444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91848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96252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96252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03848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39152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9152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39152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9152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4266720" y="2438280"/>
            <a:ext cx="26672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426708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H="1">
            <a:off x="4419720" y="49528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035680" y="920880"/>
            <a:ext cx="135864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05512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041800" y="5803920"/>
            <a:ext cx="134640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01876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49568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400800" y="617220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640044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426672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0D0-8028-41FE-B103-B74587B2F93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8256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8256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8256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8321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7558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8792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8026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8029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8036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2546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1786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2326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546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1786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102360" y="5797440"/>
            <a:ext cx="901800" cy="6969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2326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563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08004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240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1240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1240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2004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5530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5530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5530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5530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34290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34290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3580920" y="4952880"/>
            <a:ext cx="26672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1972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2170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2037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1803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6576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5627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55623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34286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280160" y="46080"/>
            <a:ext cx="325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Tarificación 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473960" y="1149480"/>
            <a:ext cx="1511280" cy="3949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7467480" y="1371600"/>
            <a:ext cx="1524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uso de a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vi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Reducción contamina-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iudad más den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0E7-4A67-454B-9626-180BA59978A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278720" y="46080"/>
            <a:ext cx="558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Subsidio transporte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778880" y="1530360"/>
            <a:ext cx="1206360" cy="425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772400" y="1676520"/>
            <a:ext cx="12193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umenta uso del mo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fecta estratos bajo ingre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nsifi-cación centro y corre-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0C3-3AEB-4F78-BA8C-DBF914A1250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279440" y="46080"/>
            <a:ext cx="630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Localización mínimo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778880" y="1530360"/>
            <a:ext cx="1206360" cy="425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772400" y="1676520"/>
            <a:ext cx="12193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iajes más cor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Usos de modos flexi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ayor tiempo disponi-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58E-7718-491A-891C-D6CB92210B9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279800" y="46080"/>
            <a:ext cx="445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Comunicación rem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778880" y="1530360"/>
            <a:ext cx="1206360" cy="47880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7772400" y="1676520"/>
            <a:ext cx="1219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número de viaj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ncade-namiento de viaj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ás tiempo disponi-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enor gasto trans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D56-F51B-4F89-AD0C-48962507BC6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"/>
          <p:cNvSpPr/>
          <p:nvPr/>
        </p:nvSpPr>
        <p:spPr>
          <a:xfrm>
            <a:off x="976680" y="1141560"/>
            <a:ext cx="1321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051920" y="2360520"/>
            <a:ext cx="129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051560" y="3579840"/>
            <a:ext cx="54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051200" y="472284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050840" y="5942160"/>
            <a:ext cx="63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054240" y="92088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054240" y="2139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054240" y="3282840"/>
            <a:ext cx="596880" cy="596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60720" y="4584600"/>
            <a:ext cx="73656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984400" y="5727600"/>
            <a:ext cx="889200" cy="6606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107880" y="974880"/>
            <a:ext cx="41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31200" y="3336840"/>
            <a:ext cx="65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031560" y="4708440"/>
            <a:ext cx="8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032280" y="5805360"/>
            <a:ext cx="93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483240" y="920880"/>
            <a:ext cx="596880" cy="5968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407280" y="2139840"/>
            <a:ext cx="749160" cy="6732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461280" y="97488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483240" y="3359160"/>
            <a:ext cx="596880" cy="617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07280" y="4654440"/>
            <a:ext cx="82548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330960" y="5797440"/>
            <a:ext cx="901800" cy="696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461280" y="3489480"/>
            <a:ext cx="65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384960" y="478476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ij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384960" y="594360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352680" y="2819520"/>
            <a:ext cx="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352680" y="3886200"/>
            <a:ext cx="0" cy="68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781680" y="15238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781680" y="4038480"/>
            <a:ext cx="0" cy="6098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781680" y="54100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3657600" y="2438280"/>
            <a:ext cx="2666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3657600" y="35812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3809520" y="4952880"/>
            <a:ext cx="25909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425840" y="920880"/>
            <a:ext cx="1359000" cy="672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445640" y="966960"/>
            <a:ext cx="130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432320" y="5803920"/>
            <a:ext cx="1346040" cy="660240"/>
          </a:xfrm>
          <a:prstGeom prst="rect">
            <a:avLst/>
          </a:prstGeom>
          <a:solidFill>
            <a:srgbClr val="1e3b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408920" y="5843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quilibr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on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791320" y="6172200"/>
            <a:ext cx="5331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H="1">
            <a:off x="5790960" y="1219320"/>
            <a:ext cx="6858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3657240" y="1219320"/>
            <a:ext cx="7621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280160" y="46080"/>
            <a:ext cx="519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0000"/>
                </a:solidFill>
                <a:latin typeface="Arial"/>
              </a:rPr>
              <a:t>Incentivos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778880" y="1530360"/>
            <a:ext cx="1206360" cy="51688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772400" y="1676520"/>
            <a:ext cx="12193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na-lización de co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ns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Uso mix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ptimización uso infrae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fectos 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53A-D004-484F-A459-39EFE2018E9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319-1FA8-475A-B9A0-153EBD17C4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6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8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0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2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273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2897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2898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2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2903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7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2908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2913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15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2916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2918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752-6F7C-4FE1-A50E-7B6F2ECFBD1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33"/>
            </a:gs>
            <a:gs pos="100000">
              <a:srgbClr val="0082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2A59A4-8333-445C-9DA7-C57581130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advTm="1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08F-6A9D-475C-8C64-744353FA5A62}" type="slidenum">
              <a:t>12</a:t>
            </a:fld>
          </a:p>
        </p:txBody>
      </p:sp>
    </p:spTree>
  </p:cSld>
  <p:transition spd="med" advTm="1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2D8-E086-4A15-9183-8F9097CFCE60}" type="slidenum">
              <a:t>13</a:t>
            </a:fld>
          </a:p>
        </p:txBody>
      </p:sp>
    </p:spTree>
  </p:cSld>
  <p:transition spd="med" advTm="1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B15-0E61-4BF1-BF0A-5C2E63F70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119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24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28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33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37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42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52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69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B03-0A67-43A4-8DB9-BD33D3ECDB20}" type="slidenum">
              <a:t>15</a:t>
            </a:fld>
          </a:p>
        </p:txBody>
      </p:sp>
    </p:spTree>
  </p:cSld>
  <p:transition spd="med"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062-AC6A-4F66-B7F1-E871027398E6}" type="slidenum">
              <a:t>16</a:t>
            </a:fld>
          </a:p>
        </p:txBody>
      </p:sp>
    </p:spTree>
  </p:cSld>
  <p:transition spd="med" advTm="1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205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210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214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19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23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51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55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59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63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420-4C4B-4470-B763-57CDB2FDC5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751-C3B2-4986-AEF6-1A900EBBBA76}" type="slidenum">
              <a:t>18</a:t>
            </a:fld>
          </a:p>
        </p:txBody>
      </p:sp>
    </p:spTree>
  </p:cSld>
  <p:transition spd="med" advTm="1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78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83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87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92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96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314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318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22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26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4F5-F1B5-41AF-A8BE-65D72D487E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484-2EFC-4F9D-A75A-F367C414E0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est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BA0-6201-49EA-B335-07DD23C7C8D3}" type="slidenum">
              <a:t>20</a:t>
            </a:fld>
          </a:p>
        </p:txBody>
      </p:sp>
    </p:spTree>
  </p:cSld>
  <p:transition spd="med" advTm="1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65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66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73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83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84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15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416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417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1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42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45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71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72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80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85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0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511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515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18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783-638B-44E1-8A4E-45186B848637}" type="slidenum">
              <a:t>21</a:t>
            </a:fld>
          </a:p>
        </p:txBody>
      </p:sp>
    </p:spTree>
  </p:cSld>
  <p:transition advTm="30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25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32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39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46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53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60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67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76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9CB-5FE9-4523-9F54-7970F67C9402}" type="slidenum">
              <a:t>22</a:t>
            </a:fld>
          </a:p>
        </p:txBody>
      </p:sp>
    </p:spTree>
  </p:cSld>
  <p:transition advTm="2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93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217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218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23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28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33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9D8-FC4A-4EA5-A839-0CAE572E2DA8}" type="slidenum">
              <a:t>23</a:t>
            </a:fld>
          </a:p>
        </p:txBody>
      </p:sp>
    </p:spTree>
  </p:cSld>
  <p:transition advTm="31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DC2-AA33-4C62-9FF4-BA4B5FD5C452}" type="slidenum">
              <a:t>24</a:t>
            </a:fld>
          </a:p>
        </p:txBody>
      </p:sp>
    </p:spTree>
  </p:cSld>
  <p:transition advTm="31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49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58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60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2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0EE-03DA-4A99-AC5E-11C264F382DD}" type="slidenum">
              <a:t>25</a:t>
            </a:fld>
          </a:p>
        </p:txBody>
      </p:sp>
    </p:spTree>
  </p:cSld>
  <p:transition advTm="31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EC3-B537-4C76-BF71-0453A43C6D65}" type="slidenum">
              <a:t>26</a:t>
            </a:fld>
          </a:p>
        </p:txBody>
      </p:sp>
    </p:spTree>
  </p:cSld>
  <p:transition spd="med" advTm="1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804-481F-466D-B9F6-214C191F7F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A8C-4213-421F-B734-803FFC30D0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FB7-619F-47FF-951A-2D9E60F3DF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1A1-83CC-47BC-9AFF-3354BB6DE340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6840" y="4479840"/>
            <a:ext cx="268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 : 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E72-E683-428C-8F79-8B167B972E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353600" y="50328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5636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96040" y="360216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1A3-4510-4128-8414-CC3BCD57E1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350000" y="503280"/>
            <a:ext cx="7165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B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A04-D044-46ED-A5ED-CC5801070A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DE4-7F5A-40DE-A050-88CFDF4019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D3E-5F44-405D-A54E-EB4CA7508C9E}" type="slidenum">
              <a:t>34</a:t>
            </a:fld>
          </a:p>
        </p:txBody>
      </p:sp>
    </p:spTree>
  </p:cSld>
  <p:transition spd="med" advTm="16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042702-630A-46C9-A028-4BF73A0F537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9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2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C63752-942F-48D3-AED6-316DCFE49AF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br>
              <a:rPr sz="44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790640" y="3962520"/>
                <a:ext cx="62658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1371600" y="1905120"/>
                <a:ext cx="41799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1936800" y="5410080"/>
                <a:ext cx="49212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1" name=""/>
          <p:cNvSpPr/>
          <p:nvPr/>
        </p:nvSpPr>
        <p:spPr>
          <a:xfrm>
            <a:off x="5867280" y="1371600"/>
            <a:ext cx="1905120" cy="762120"/>
          </a:xfrm>
          <a:prstGeom prst="wedgeRectCallout">
            <a:avLst>
              <a:gd name="adj1" fmla="val -135166"/>
              <a:gd name="adj2" fmla="val 88125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505320"/>
            <a:ext cx="16761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81680" y="2590920"/>
            <a:ext cx="1219320" cy="6858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240240" y="2325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256080" y="29718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21592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3DAFE5-4848-4E53-8FB9-16E855F7B14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867280" y="1828800"/>
                <a:ext cx="2654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U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D311DB-FF66-41D9-A65B-003A68ACC07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6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1BA25D-DC9E-48A0-A46A-9A437619465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0" y="3505320"/>
                <a:ext cx="48132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tu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19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203480" y="49165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Agregando sobre el </a:t>
            </a: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patrón de viajes</a:t>
            </a: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 realizados por el hogar se obtiene una medida del beneficio neto del ho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19B-9027-4847-A9F1-AB79F30D3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6E1D67-6C03-4A95-B790-924E7A485F92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3808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0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31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32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438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4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A48246-DBDF-4AB5-BBD5-9DBD94B34D4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3660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4565520" y="1295280"/>
                <a:ext cx="2749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6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457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464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465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471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7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479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3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484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7D10ED-4A38-4609-B0F6-091AC15B318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2681280" y="1109520"/>
                <a:ext cx="1922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2716200" y="2678040"/>
                <a:ext cx="18748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840040" y="4309920"/>
                <a:ext cx="37036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498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499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00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4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28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29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7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538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9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2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2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555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7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A51-CBD5-4FA1-9807-6037CAAB4D6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l comportamiento microeconómico del consumid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05E-AC65-4B0B-A059-A0B0717559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5111640" y="82440"/>
            <a:ext cx="3721320" cy="18925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Veamos el mecanismo de localización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7" name=""/>
          <p:cNvGraphicFramePr/>
          <p:nvPr/>
        </p:nvGraphicFramePr>
        <p:xfrm>
          <a:off x="5175360" y="2232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5360" y="2232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9" name=""/>
          <p:cNvSpPr/>
          <p:nvPr/>
        </p:nvSpPr>
        <p:spPr>
          <a:xfrm>
            <a:off x="6553080" y="1523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5053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6633"/>
                </a:solidFill>
                <a:latin typeface="Times New Roman"/>
              </a:rPr>
              <a:t>III. LOCALIZACIÓN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6633"/>
                </a:solidFill>
                <a:latin typeface="Times New Roman"/>
              </a:rPr>
              <a:t>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6B9-5C5C-45B1-B6BE-1D2DBEA5440D}" type="slidenum">
              <a:t>45</a:t>
            </a:fld>
          </a:p>
        </p:txBody>
      </p:sp>
    </p:spTree>
  </p:cSld>
  <p:transition spd="med" advTm="16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206880" y="1378080"/>
            <a:ext cx="2501640" cy="50616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1576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1580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035160" y="318960"/>
            <a:ext cx="27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126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1260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9E8-D104-4C54-ABC2-C581DEFD273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04480" y="38052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6633"/>
                </a:solidFill>
                <a:latin typeface="Times New Roman"/>
              </a:rPr>
              <a:t>CONCEPTOS BÁSICOS EN LOCALIZACIÓN URBAN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localización define el escenario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ción de cuasi-uni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s externas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nfoques de mode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A0D-D315-483C-B35E-36F78F420C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II.1 Noción de cuasi-unic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uelo urbano es cuasi-único pues no se puede reproducir el ento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calidad del entorno es producto de las desiciones de los de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hay costo de producción (o es irrelevante), igual que las obras de ar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40C-D4A7-4441-93DB-349BF7C6B0C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95000" y="609120"/>
            <a:ext cx="8496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8cf4ea"/>
                </a:solidFill>
                <a:latin typeface="Times New Roman"/>
              </a:rPr>
              <a:t>III.2 Economías externas de localización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localización de una actividad depende de la localización de los demás (entorn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localización de los demás se afecta por la localización de una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19F-5B3D-48EA-B7FB-CE8483024FB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ABE-5068-40B9-AFD8-4368FEDACD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II.3 Ren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valor (de uso) del suelo se construye como el valor de la máxima disposición a pagar; igual que en un rem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sto incluye complejos procesos de especulación (que existe por defini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692-FB09-471F-B6B3-4F615816F8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II.5 Enfoques de model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352160" y="2743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nálisis de relaciones individuales/ tendencia del desarrollo agreg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ratamiento explícito de la renta (cuasi unicidad)/ supuesto de bien “norm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767-0685-42C7-A1D3-6E6200D4961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380880" y="2895480"/>
            <a:ext cx="769644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CISIONES INDIVIDUALES PERO DEPENDIENTE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XTERNALIDADES DE LOCALIZAC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09480" y="3886200"/>
            <a:ext cx="8534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i)  Depende de aglomer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ii)  Accesibilidad a otras actividades y atractividad de otras activ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iii)  Características Geográficas y Socioeconómic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5334120"/>
            <a:ext cx="6629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CISIONES RACIONALES  Máx </a:t>
            </a:r>
            <a:r>
              <a:rPr b="0" i="1" lang="es-ES" sz="23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 individu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28600" y="1905120"/>
            <a:ext cx="891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6200" indent="-106200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STUDIAR EL COMPORTAMIENTO DE LOS CONSUMIDORES EN EL MODELO DEL SUELO URBANO (hogares y firma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33520" y="45720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III.5 </a:t>
            </a:r>
            <a:r>
              <a:rPr b="1" lang="es-ES" sz="2800" spc="-1" strike="noStrike">
                <a:solidFill>
                  <a:srgbClr val="8cf4ea"/>
                </a:solidFill>
                <a:latin typeface="Times New Roman"/>
              </a:rPr>
              <a:t>MODELO DE COMPORTAMIENTO DE LA DEMANDA.  OFERTA CONO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B3E-FE64-4FE4-BDDC-7F3B6B6715F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Vamos... 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odelar est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6FF-7A9B-42AD-B50A-D47BEC480331}" type="slidenum">
              <a:t>53</a:t>
            </a:fld>
          </a:p>
        </p:txBody>
      </p:sp>
    </p:spTree>
  </p:cSld>
  <p:transition spd="med" advTm="16000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a 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(a)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utilidad que extrae el agente 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realizar activ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ctividad se describe p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lidad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q(x,z)        x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,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empo dedicado </a:t>
            </a:r>
            <a:r>
              <a:rPr b="0" i="1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=f T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recuencia y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ambiente es hetereogéneo: mapa del uso del suelo, acc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B14-3B2D-4865-B406-E6BC5973A49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1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8D8-4059-4985-BEAB-07F1403035C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6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243-222A-4F8D-BFB0-23BF12E32BA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Un momentit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Explíqueme esto de la disposición a pag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B3A-747C-403A-966A-FF1E1E944669}" type="slidenum">
              <a:t>57</a:t>
            </a:fld>
          </a:p>
        </p:txBody>
      </p:sp>
    </p:spTree>
  </p:cSld>
  <p:transition spd="med" advTm="16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5410080" y="1600200"/>
            <a:ext cx="342900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La DP del hogar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a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  U(x,z;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.a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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x + p(z) =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 utilidad indirecta V es:   V(I-p, P, z;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virtiendo V para U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0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---&gt;  Y-p(z) = V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(P, z; U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P(z) = Y - V</a:t>
            </a:r>
            <a:r>
              <a:rPr b="1" lang="es-CL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(P, z; U</a:t>
            </a:r>
            <a:r>
              <a:rPr b="1" lang="es-CL" sz="3200" spc="-1" strike="noStrike" baseline="30000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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 el máximo valor que el hogar está dispuesto a pagar para obtener un nivel de utilidad U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, si los precios son P y dispone de un ingreso Y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11240" y="2362320"/>
            <a:ext cx="257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4495680" y="1441080"/>
            <a:ext cx="0" cy="9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5791320" y="167652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06C-F037-4B94-B9D3-760AE9EE772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Familia de curvas disposición a pa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817200" y="124452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103200" y="52833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198080" y="3530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35440" y="3360600"/>
            <a:ext cx="3643920" cy="273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8AB-4ECB-4495-AAB6-9830D20A6C6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F3D-7D62-4F86-A516-88CF698F0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del ho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160720" y="-1879560"/>
            <a:ext cx="8178120" cy="650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303960" y="4368960"/>
            <a:ext cx="646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(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22960" y="12445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403640" y="5877000"/>
            <a:ext cx="633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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quilibrio:  donde DP es tangente a p(z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108960" y="528336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203840" y="353052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7360" y="3429000"/>
            <a:ext cx="364464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7DC-7547-468C-A074-FA4C93574C3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residencial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676520" y="16826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682640" y="54100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1320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46640" y="14731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rot="60000">
            <a:off x="2618640" y="564480"/>
            <a:ext cx="5625720" cy="455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rot="300000">
            <a:off x="2942280" y="-127800"/>
            <a:ext cx="4101480" cy="54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rot="120000">
            <a:off x="1777680" y="2819880"/>
            <a:ext cx="80643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852520" y="47181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547600" y="502272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709520" y="51753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352680" y="442584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886200" y="473076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682640" y="5638680"/>
            <a:ext cx="1663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359160" y="563868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892680" y="5638680"/>
            <a:ext cx="2273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338920" y="5664240"/>
            <a:ext cx="265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h1              h2            h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641-3650-4147-A017-14088EDC989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730-310B-4914-A16E-E1DC2760579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2" name="PlaceHolder 1"/>
          <p:cNvSpPr>
            <a:spLocks noGrp="1"/>
          </p:cNvSpPr>
          <p:nvPr>
            <p:ph/>
          </p:nvPr>
        </p:nvSpPr>
        <p:spPr>
          <a:xfrm>
            <a:off x="776160" y="1066320"/>
            <a:ext cx="37958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Y de que me puede servir la disposición a paga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A35-BB11-4AE4-B794-2D1FBDD83348}" type="slidenum">
              <a:t>63</a:t>
            </a:fld>
          </a:p>
        </p:txBody>
      </p:sp>
    </p:spTree>
  </p:cSld>
  <p:transition spd="med" advTm="16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7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77B-4208-4762-9F88-0D4532BD45B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445-ACA9-4F83-BE42-7C555063C1D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62120" y="37339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6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733920" y="4540320"/>
            <a:ext cx="5135400" cy="1904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4038480" y="5302080"/>
                <a:ext cx="48006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4089240" y="4419720"/>
                <a:ext cx="3073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0" name=""/>
          <p:cNvSpPr/>
          <p:nvPr/>
        </p:nvSpPr>
        <p:spPr>
          <a:xfrm>
            <a:off x="6553080" y="3429000"/>
            <a:ext cx="2286000" cy="685800"/>
          </a:xfrm>
          <a:prstGeom prst="wedgeRectCallout">
            <a:avLst>
              <a:gd name="adj1" fmla="val -35347"/>
              <a:gd name="adj2" fmla="val 125000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99"/>
                </a:solidFill>
                <a:latin typeface="Arial"/>
              </a:rPr>
              <a:t>Especul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C18-C18C-4E70-A32D-EA75849AEEC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0" name=""/>
              <p:cNvSpPr txBox="1"/>
              <p:nvPr/>
            </p:nvSpPr>
            <p:spPr>
              <a:xfrm>
                <a:off x="4773600" y="1066680"/>
                <a:ext cx="4157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1" name=""/>
              <p:cNvSpPr txBox="1"/>
              <p:nvPr/>
            </p:nvSpPr>
            <p:spPr>
              <a:xfrm>
                <a:off x="1062000" y="2940120"/>
                <a:ext cx="68104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2" name=""/>
              <p:cNvSpPr txBox="1"/>
              <p:nvPr/>
            </p:nvSpPr>
            <p:spPr>
              <a:xfrm>
                <a:off x="4024440" y="4664160"/>
                <a:ext cx="467352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9D3-96C9-471F-820F-325C999CAE1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5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6" name=""/>
              <p:cNvSpPr txBox="1"/>
              <p:nvPr/>
            </p:nvSpPr>
            <p:spPr>
              <a:xfrm>
                <a:off x="2819520" y="3124080"/>
                <a:ext cx="41259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7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826-2890-4691-A1CF-9EE8751C089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E8B-D4B4-4997-9DB2-DAB8FCCA4A80}" type="slidenum">
              <a:t>69</a:t>
            </a:fld>
          </a:p>
        </p:txBody>
      </p:sp>
    </p:spTree>
  </p:cSld>
  <p:transition spd="med"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954-97C8-4C3B-80B9-4DB96DEA6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F66-1543-4B45-AFE9-5F9FF7865C6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621-DE79-44BD-9D14-D8C49410F22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C61-AD95-423C-8F9B-F0AD5F17889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) - w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- w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&gt;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- w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1862280" y="3809880"/>
                <a:ext cx="4655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A52-A7B2-44ED-BA13-F1E0ED2228E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1238400" y="3962520"/>
                <a:ext cx="727704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370-8D96-4648-92A3-52CDED56D0F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986280" y="2414520"/>
                <a:ext cx="3303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529080" y="3429000"/>
                <a:ext cx="4448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460600" y="5410080"/>
                <a:ext cx="403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E36-D1D0-4A3D-B198-A082B220E4CC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836640" y="1600200"/>
                <a:ext cx="7927920" cy="21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4" name=""/>
          <p:cNvSpPr/>
          <p:nvPr/>
        </p:nvSpPr>
        <p:spPr>
          <a:xfrm>
            <a:off x="2040480" y="3886200"/>
            <a:ext cx="56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w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terminís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60C-319E-4B2E-8390-4CBB66320294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6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8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03C-D080-4809-8332-0DBB9A0D0F4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5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316-820E-4176-9327-6AC462FCF4C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Y que rol tiene la oferta inmobiliari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   </a:t>
            </a: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Ningun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671-1A66-45F9-9A9A-69444561BC5D}" type="slidenum">
              <a:t>79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80B-2C8B-4174-A20F-E0FA2AE36E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151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OFERTA</a:t>
            </a:r>
            <a:br>
              <a:rPr sz="3200"/>
            </a:b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Demanda Conocida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6200" indent="-106200">
              <a:lnSpc>
                <a:spcPct val="110000"/>
              </a:lnSpc>
              <a:spcBef>
                <a:spcPts val="4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ARIOS AGENTES PRODUC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ueño de la tier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ador de suelo urbaniza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ructor de viviendas y otros edif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6200" indent="-106200">
              <a:lnSpc>
                <a:spcPct val="110000"/>
              </a:lnSpc>
              <a:spcBef>
                <a:spcPts val="4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XIMIZADORES DE PRO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6200" indent="-106200">
              <a:lnSpc>
                <a:spcPct val="11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RCADO COMPETENCIA IMPERFE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189-ABF6-4914-B3EF-329EABE45AE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0" name=""/>
          <p:cNvGraphicFramePr/>
          <p:nvPr/>
        </p:nvGraphicFramePr>
        <p:xfrm>
          <a:off x="1674720" y="-836640"/>
          <a:ext cx="6175440" cy="803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-836640"/>
                    <a:ext cx="6175440" cy="803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D33-54B1-4B2E-B7CF-416DEB73A79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380880" y="1523880"/>
            <a:ext cx="8458200" cy="4876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0880" y="685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cf4ea"/>
                </a:solidFill>
                <a:latin typeface="Times New Roman"/>
              </a:rPr>
              <a:t>MODELO MONOPOLICO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63600" y="1676520"/>
                <a:ext cx="7920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DT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gres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to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473040" y="2743200"/>
                <a:ext cx="7920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DU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gres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menos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pi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mobilizad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560520" y="4502160"/>
                <a:ext cx="77659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CV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gres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men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pi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mobilizad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57" name=""/>
          <p:cNvGrpSpPr/>
          <p:nvPr/>
        </p:nvGrpSpPr>
        <p:grpSpPr>
          <a:xfrm>
            <a:off x="2057400" y="3809880"/>
            <a:ext cx="4800600" cy="685800"/>
            <a:chOff x="2057400" y="3809880"/>
            <a:chExt cx="4800600" cy="685800"/>
          </a:xfrm>
        </p:grpSpPr>
        <mc:AlternateContent>
          <mc:Choice xmlns:a14="http://schemas.microsoft.com/office/drawing/2010/main" Requires="a14">
            <p:sp>
              <p:nvSpPr>
                <p:cNvPr id="1858" name=""/>
                <p:cNvSpPr txBox="1"/>
                <p:nvPr/>
              </p:nvSpPr>
              <p:spPr>
                <a:xfrm>
                  <a:off x="2208240" y="3886200"/>
                  <a:ext cx="44211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</m:d>
                      <m:r>
                        <m:t xml:space="preserve"> </m:t>
                      </m:r>
                      <m:sSubSup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sub>
                        <m:sup>
                          <m:r>
                            <m:t xml:space="preserve">S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59" name=""/>
            <p:cNvSpPr/>
            <p:nvPr/>
          </p:nvSpPr>
          <p:spPr>
            <a:xfrm>
              <a:off x="2057400" y="3809880"/>
              <a:ext cx="480060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5715000"/>
            <a:ext cx="6172200" cy="609480"/>
            <a:chOff x="1219320" y="5715000"/>
            <a:chExt cx="6172200" cy="609480"/>
          </a:xfrm>
        </p:grpSpPr>
        <mc:AlternateContent>
          <mc:Choice xmlns:a14="http://schemas.microsoft.com/office/drawing/2010/main" Requires="a14">
            <p:sp>
              <p:nvSpPr>
                <p:cNvPr id="1861" name=""/>
                <p:cNvSpPr txBox="1"/>
                <p:nvPr/>
              </p:nvSpPr>
              <p:spPr>
                <a:xfrm>
                  <a:off x="1523880" y="5791320"/>
                  <a:ext cx="568800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ki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S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vki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62" name=""/>
            <p:cNvSpPr/>
            <p:nvPr/>
          </p:nvSpPr>
          <p:spPr>
            <a:xfrm>
              <a:off x="1219320" y="5715000"/>
              <a:ext cx="6172200" cy="609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164-F673-4EBF-AB54-B32D038C3B5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380880" y="457200"/>
            <a:ext cx="815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Comportamiento monopólico</a:t>
            </a: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:  agente anticipa precio dispuesto a pagar por la demanda</a:t>
            </a:r>
            <a:r>
              <a:rPr b="0" lang="es-ES_tradnl" sz="2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1981080" y="1676520"/>
                <a:ext cx="3903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" y="2895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Reemplazando en problema de Max. pro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1371600" y="3505320"/>
                <a:ext cx="220680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3581280" y="33526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62520" y="3962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nta monopólica se transmite al dueño de la tier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511-0874-45B8-A678-309282B2AEC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6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DEB-2C59-43A3-89A4-124CD4B22D7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O.K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Tenemos piezas y partes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cómo se junta todo esto ahora?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FA9-B7DD-43BB-9CE4-74A80348C3C0}" type="slidenum">
              <a:t>85</a:t>
            </a:fld>
          </a:p>
        </p:txBody>
      </p:sp>
    </p:spTree>
  </p:cSld>
  <p:transition spd="med" advTm="16000"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PROBLEMA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redecir localización y rentas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Mercado del suelo: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competitivo y especulat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gentes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hogares y firm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h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racionales, diversos gustos, compiten suelo, esternal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spacio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zon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i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heterogéneo en atributos</a:t>
            </a:r>
            <a:r>
              <a:rPr b="1" lang="es-CL" sz="2400" spc="-1" strike="noStrike">
                <a:solidFill>
                  <a:srgbClr val="8cf4ea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imitado y regul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dustria inmobiliaria: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diversas viviendas, maximizadoresde ganancia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</a:t>
            </a:r>
            <a:r>
              <a:rPr b="1" i="1" lang="es-CL" sz="32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FA3-69E3-4F40-B82D-8FE81C1F1E6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936800" y="609120"/>
            <a:ext cx="695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xógen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1461600" y="2362320"/>
            <a:ext cx="748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recimiento: N° hogares y firmas (H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Sistema de transporte (acc, at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gulaciones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centivos de localiz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057-9209-40AF-96A3-7B9BF3C58F0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861920" y="609120"/>
            <a:ext cx="703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ndógen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1386000" y="19810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Uso del suelo (S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, q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(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nta (r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Decisiones de los ag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xcedentes o Nivel de v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C87-B9D0-4853-8AF1-07D7A135072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remat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ostur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1600200" y="2514600"/>
                <a:ext cx="708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6" name=""/>
          <p:cNvSpPr/>
          <p:nvPr/>
        </p:nvSpPr>
        <p:spPr>
          <a:xfrm>
            <a:off x="1542600" y="3905280"/>
            <a:ext cx="34534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ostura          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, w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ingreso hogar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Z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de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arámetros de g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1411200" y="3200400"/>
                <a:ext cx="738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F52-F749-4303-832D-FD35E30A49D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612-B376-4A5F-9FD6-1F344F3122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probabilidad que agente tipo h sea mejor postor en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762120" y="3200400"/>
                <a:ext cx="8305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1" name=""/>
          <p:cNvSpPr/>
          <p:nvPr/>
        </p:nvSpPr>
        <p:spPr>
          <a:xfrm>
            <a:off x="2189520" y="4917960"/>
            <a:ext cx="590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ocalizados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Oferta de vievienda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en grupo categoría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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robabilidad de que h haga posturas en v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A62-48F3-451C-AEC2-7A11C565B6D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785600" y="609120"/>
            <a:ext cx="711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renta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a renta es la máxima postura espe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990720" y="5029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279440" y="5105520"/>
            <a:ext cx="7255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vi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arte de la renta con valor común a todo postor      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(valor de referenc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372960" y="2971800"/>
                <a:ext cx="8694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88B-40C3-41DA-9963-6F8D133FF55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95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1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157040" y="19807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 Todo agente se locali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9" name=""/>
              <p:cNvSpPr txBox="1"/>
              <p:nvPr/>
            </p:nvSpPr>
            <p:spPr>
              <a:xfrm>
                <a:off x="1752480" y="2895480"/>
                <a:ext cx="5334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0" name=""/>
          <p:cNvSpPr/>
          <p:nvPr/>
        </p:nvSpPr>
        <p:spPr>
          <a:xfrm>
            <a:off x="1513080" y="4632480"/>
            <a:ext cx="653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v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N° de viviendas disponibles tipo v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   Corte temporal de pred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N° de agentes tipo h (exóge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AC0-36B0-4A96-9C12-67B797B6911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9595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2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79400" y="3075120"/>
                <a:ext cx="795348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m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vi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903" name=""/>
          <p:cNvSpPr/>
          <p:nvPr/>
        </p:nvSpPr>
        <p:spPr>
          <a:xfrm>
            <a:off x="1506600" y="5043600"/>
            <a:ext cx="5891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Oferta de máxima ganancia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Symbol"/>
                <a:ea typeface="Symbol"/>
              </a:rPr>
              <a:t>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función de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alras: Oferta igual dem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B5E-974A-4952-B81D-6344F402A09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95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3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2004840" y="3235320"/>
                <a:ext cx="4819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7" name=""/>
          <p:cNvSpPr/>
          <p:nvPr/>
        </p:nvSpPr>
        <p:spPr>
          <a:xfrm>
            <a:off x="1514520" y="5089680"/>
            <a:ext cx="6379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Área de terreno en tipo de vivienda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Área disponible para localización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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Tipos de viviendas aceptables en zon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 de suelo: Oferta de suelo inelá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3BE-A980-4DA3-A693-E291929E6A5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12193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1430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Arial"/>
              </a:rPr>
              <a:t>Externalidades de localización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la localización afecta la localización a través de los atributos zonales (variables endógen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1066680" y="4495680"/>
                <a:ext cx="60120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824040" y="3048120"/>
                <a:ext cx="7635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3" name=""/>
          <p:cNvSpPr/>
          <p:nvPr/>
        </p:nvSpPr>
        <p:spPr>
          <a:xfrm>
            <a:off x="2135160" y="6172200"/>
            <a:ext cx="4664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localización :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=f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010280" y="3809880"/>
            <a:ext cx="1828800" cy="838440"/>
          </a:xfrm>
          <a:prstGeom prst="wedgeRectCallout">
            <a:avLst>
              <a:gd name="adj1" fmla="val -156250"/>
              <a:gd name="adj2" fmla="val -7537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riables  u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l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C9E-77D0-4AF6-8C5E-1B25008BD89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1828800" y="1760400"/>
                <a:ext cx="70707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1917720" y="3513240"/>
                <a:ext cx="7226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981080" y="4495680"/>
                <a:ext cx="3633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9" name=""/>
          <p:cNvSpPr/>
          <p:nvPr/>
        </p:nvSpPr>
        <p:spPr>
          <a:xfrm>
            <a:off x="1523880" y="302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279080" y="2117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279080" y="36417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279080" y="45561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78240" y="517680"/>
            <a:ext cx="6201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Problema de optimizació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1981080" y="5486400"/>
                <a:ext cx="3184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1279080" y="5546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313-F6BE-41C3-8CBC-491700427D7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7" name=""/>
              <p:cNvSpPr txBox="1"/>
              <p:nvPr/>
            </p:nvSpPr>
            <p:spPr>
              <a:xfrm>
                <a:off x="1025640" y="4183200"/>
                <a:ext cx="78548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bSup>
                      <m:e/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8" name=""/>
          <p:cNvSpPr/>
          <p:nvPr/>
        </p:nvSpPr>
        <p:spPr>
          <a:xfrm>
            <a:off x="1978920" y="6156360"/>
            <a:ext cx="4254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9" name=""/>
              <p:cNvSpPr txBox="1"/>
              <p:nvPr/>
            </p:nvSpPr>
            <p:spPr>
              <a:xfrm>
                <a:off x="2133720" y="198108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A29-AC36-41D2-97D4-33D66EA35AF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3285720" y="5165640"/>
            <a:ext cx="2742120" cy="85572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P, B</a:t>
            </a:r>
            <a:r>
              <a:rPr b="1" i="1" lang="es-CL" sz="20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)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rob. optim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019920" y="556272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238880" y="2057040"/>
            <a:ext cx="0" cy="3505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C48-4AD1-43C0-97BB-AA9D0BC70C1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7FE-37EA-42D3-8F8B-21793A61603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Sec. Transporte</cp:lastModifiedBy>
  <dcterms:modified xsi:type="dcterms:W3CDTF">2001-08-02T14:51:31Z</dcterms:modified>
  <cp:revision>67</cp:revision>
  <dc:subject/>
  <dc:title>General</dc:title>
</cp:coreProperties>
</file>